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6FD-8C34-43B5-B35B-34D5ABAF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08E-726D-4C9A-9F6F-CEBBB6C3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1F4-DDB2-4D31-AB8E-7C68E950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79C-40B9-439B-918C-315FBDE9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4C8-1B99-4B74-BD63-EBEBEE1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AA0-C258-4542-A487-B6982CC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41B-ECD5-40AE-AC54-CD54B36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F3F-9796-491C-9084-9FCEC89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7C9-72F0-4511-8FF6-425EA5E2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495-D8E0-4184-970D-2624DD25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A1E-EECF-441E-AAD4-99184DB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59C-201C-4021-81E6-9169F9D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4B4-C023-4169-87A2-6F2691C7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7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574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Translating Graphs of Absolute Valu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6324840" cy="264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5791320"/>
            <a:ext cx="601992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27432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657600" cy="426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43400" y="1676520"/>
            <a:ext cx="4314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3080" cy="8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809880" cy="71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211932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" y="4121280"/>
            <a:ext cx="365760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410080" y="4267080"/>
            <a:ext cx="2286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29600" cy="91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10240" cy="4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3809880" cy="36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42670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56272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the difference between the graph of y = x  + 3 and Y =  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3452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1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3341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44:59Z</dcterms:created>
  <dc:creator>Susannah Graham</dc:creator>
  <dc:description/>
  <dc:language>en-US</dc:language>
  <cp:lastModifiedBy>Susannah Graham</cp:lastModifiedBy>
  <dcterms:modified xsi:type="dcterms:W3CDTF">2009-08-04T21:17:15Z</dcterms:modified>
  <cp:revision>2</cp:revision>
  <dc:subject/>
  <dc:title>Lesson 6.7 Graphing Absolute Value Equations</dc:title>
</cp:coreProperties>
</file>